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CA19-8503-442A-8A18-99FB6D19A298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49FF-E0B8-4E40-A401-7C799B54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4910-A8D2-45A3-B081-DB65AC6DCBE2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6BC5-C7A2-40BC-A5D0-35A49E7AAF26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ADDD-2B77-491D-9158-39E09082B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886B-6D74-4690-9C0F-4659EFE7B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61B8-140E-4DD6-ADF0-6ACD29724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5BA0-639A-4CAE-9CCF-04103B0DB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33DE-8BB5-4915-916E-03EBFFB46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40BC-D559-4120-977C-94B83ACED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1CAC-80E3-463A-8B57-203172C1D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04C3-2EB9-402C-A79B-228A63421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1C58-0FF9-4956-B978-B2E9D903B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1D3A-4977-4230-9FAC-70E0E8A19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C995-CA8E-4908-B25D-C07D3205B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B69C-DF54-4314-8DFA-6FD005B57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计算机应用基础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7BE7-60BF-4641-9372-5206839AD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63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-11160" y="2060640"/>
            <a:ext cx="9155160" cy="276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42920" y="1844640"/>
            <a:ext cx="705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章 多媒体软件的应用</a:t>
            </a:r>
            <a:r>
              <a:rPr b="0" lang="zh-CN" sz="2400" spc="-1" strike="noStrike">
                <a:solidFill>
                  <a:srgbClr val="0c71e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5B0E-0FC2-4B81-A734-F9755F7CE3F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截取屏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浏览动画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录制声音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视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7C77-616D-4CA0-A840-88EDCF50052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媒体文件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本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图形图像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画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视频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音文件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13B3-DFE2-4036-AA02-7AFEE26EF68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0E0A-EB70-4270-A6BF-AF3BE8619E6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.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图像处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来完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裁剪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加文本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C226-9DAB-41B8-B0AF-AF38FCA9D15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像的预览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图像的基本操作，包括图像查看、图像缩放、保存图像文件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BA65-3B22-42D7-9CEE-5231AB21396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缩略图查看</a:t>
            </a:r>
            <a:r>
              <a:rPr b="1" lang="zh-CN" sz="24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幻灯片查看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快速查看器</a:t>
            </a:r>
            <a:r>
              <a:rPr b="1" lang="zh-CN" sz="24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完整查看器</a:t>
            </a:r>
            <a:r>
              <a:rPr b="1" lang="zh-CN" sz="24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相片管理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图像文件 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F59B-AE29-4317-8458-F0EC449376A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快速查看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理文件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修正和改善你的照片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享你最喜欢的照片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家庭打印轻而易举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你的照片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0C7E-87E3-492A-8302-A04FAD7AF72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浏览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3488-27CB-48B9-BEE7-9104B77ADFF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中图像的常用加工工具，掌握加工图像的基本操作，包括调整图像、添加图像效果、保存加工结果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E849-6516-48A8-97B3-8B6B0CDCA4E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像大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像自动曝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像亮度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裁剪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添加图像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图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E307-2E1C-414A-B1F9-10ED9B90E27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129492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与人之间进行信息交流，可以使用文字、图形、图像、声音、动画、视频等多种形式。随着社会不断进步，科学技术不断发展，现代多媒体计算机已经能够结合各种视觉和听觉信息，制作出令人印象深刻的视听作品。</a:t>
            </a:r>
            <a:endParaRPr b="1" lang="en-US" sz="23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媒体技术是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最后十年发展的高新技术，是音频信号数字化技术、视频信号数字化技术和计算机技术相结合的产物。多媒体技术的形成和发展，不仅引起计算机工业的一次革命，也影响人类社会发生了一次巨大的变革。</a:t>
            </a:r>
            <a:endParaRPr b="1" lang="en-US" sz="23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通过截取屏幕内容、录制声音等操作、学习常见的多媒体软件（如录音机、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edia Player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ovie Maker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）的使用，理解多媒体技术相关知识，掌握多媒体素材的采集方法、多媒体文件的浏览和播放，能够做到和与家人、朋友一同享受计算机多媒体世界的影音视听娱乐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972E-C700-47E2-A004-0CD0654F3D1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像素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辨率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0DC6-71CC-4F2B-87EB-27571509A30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加工图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82BB-520B-409E-A857-6291116A681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DSe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中给图像的添加文本的基本操作，包括输入文本、调整阴影等。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8488-8E6C-47A0-9159-DD2E5FC743E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添加文本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字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阴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斜角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7DE4-9DFC-4E97-9775-5EB08799766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印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881-DD19-48CE-B094-6385466FEED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添加文本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6B5D-0060-41DF-B665-6209CA60522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.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音频视频处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来完成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edia Player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“录音机”处理音频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ovie Make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电影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AA26-0491-428C-AA73-85BE61AD4B6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音频的播放，以及设置可视化效果、调整播放器的外观、播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V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影、管理媒体库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翻录等操作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0DAF-26E0-411E-8356-3606C2E3E05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视化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外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音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音乐翻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3695040"/>
            <a:ext cx="41641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0" rIns="1141200" tIns="914040" bIns="914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6275-CA06-456C-8926-28416CB4BCD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1A38-C2D2-4865-B527-C3634ED0A35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6.1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多媒体技术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6.2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图像处理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	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6.3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音频视频处理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pic>
        <p:nvPicPr>
          <p:cNvPr id="100" name="Picture 7" descr="MCj04355460000[1]"/>
          <p:cNvPicPr/>
          <p:nvPr/>
        </p:nvPicPr>
        <p:blipFill>
          <a:blip r:embed="rId1"/>
          <a:stretch/>
        </p:blipFill>
        <p:spPr>
          <a:xfrm>
            <a:off x="6261120" y="4370400"/>
            <a:ext cx="21272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2C2F-0400-4329-84C8-77E8DD8E712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66F9-36AD-4E23-9E6B-48EDC0DDC1C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计算机中音频处理的操作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“录音机”软件处理音频的常用操作，包括打开声音文件、声音效果、声音编辑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E14E-E15B-44F2-B303-7DD9D773C6F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音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声音编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0DA7-8053-4D89-A4EF-5FDEA4DBFFC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GoldWav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软件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音频编辑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回声效果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衡器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3FB6-2D47-4610-88E1-E1A12F8FB67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“录音机”处理音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8FBE-A2E6-439C-805A-28EE60B1F36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计算机制作视频的过程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Movie Make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电影的操作，包括打开导入视频、连接视频、视频效果、视频过渡、保存电影等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3B80-8E34-4F99-A40A-46FED271326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754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备素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导入视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连接视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视频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视频过渡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电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78200" y="2634480"/>
            <a:ext cx="22831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0" rIns="1141200" tIns="914040" bIns="9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178F-FF2A-4F13-A32B-E7271846D74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片头和片尾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obe Premiere Pro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声会影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9044-8D70-48E9-BAE3-6CE75DC55AC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929E-1CB2-486E-9837-816ACEC2E23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6" name="WordArt 2"/>
          <p:cNvSpPr txBox="1"/>
          <p:nvPr/>
        </p:nvSpPr>
        <p:spPr>
          <a:xfrm>
            <a:off x="2556000" y="2565360"/>
            <a:ext cx="4176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BFDE-4C8B-4152-8135-C5AFD0E0F38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.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多媒体技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来完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多媒体技术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多媒体软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EDB1-B37C-4EDC-BA02-A65FCC10734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媒体的分类，理解文本、图形、图像、动画、音频和视频六大基本的多媒体元素。能够浏览图像和播放音乐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116D-C8F8-4845-B322-DF6B693ABB9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视化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外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音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1164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播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影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音乐翻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440" y="1234800"/>
            <a:ext cx="2283120" cy="43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0" rIns="1141200" tIns="914040" bIns="914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9CE-85AD-4746-8562-B8E51429071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媒体库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164F-FB56-4CBE-A6A9-739EC9B97A2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多媒体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（略）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132-97B9-4008-9489-B9FFEA08981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多媒体文件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了解常见多媒体文件格式，通过浏览动画和播放视频，了解多媒体文件格式，掌握浏览多媒体文件的方法，并通过截取屏幕抓图和简单的录音操作，掌握图像、声音等多媒体素材的采集方法。</a:t>
            </a:r>
            <a:br>
              <a:rPr sz="2800"/>
            </a:b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1:59:57Z</dcterms:created>
  <dc:creator>wtj</dc:creator>
  <dc:description/>
  <dc:language>en-US</dc:language>
  <cp:lastModifiedBy>单淮峰</cp:lastModifiedBy>
  <dcterms:modified xsi:type="dcterms:W3CDTF">2009-09-02T13:50:50Z</dcterms:modified>
  <cp:revision>128</cp:revision>
  <dc:subject/>
  <dc:title>图书馆资源整合与门户建设</dc:title>
</cp:coreProperties>
</file>