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8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BA16-B9D2-4427-8B24-F7975E288142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B73A-8EAE-4349-953F-3D433D2C3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B70F-62AE-483A-8E15-C09DD1AC694E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069C-FEA0-4371-8121-46CF86563534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B320-0AC9-40E2-A59C-3E71D6432D11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43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EC4D-838B-4DA4-A7C2-14E6353A222D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8ADD-298A-4241-A2A7-81E6E1B2DBCB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47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BE6F-5CE4-4EA7-9C0A-EB6993AB6124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F0FF-4A98-4C3E-BC51-D2D4CC582658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51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329C-1C19-4074-AAA7-003DE26C381B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B0DE-8780-4B37-B588-0604D7084F4E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55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7E5C-2911-4064-971B-11651E7C131D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0A54-41CD-4C04-8A53-4C1C279D3A54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59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95E1-9C7F-4EF4-8C1C-3FCE55FAF165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4616-35F4-4ED3-AA24-0153064183C2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63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07E3-662D-4902-B7A8-F10B17D6F2A4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5EBC-5860-463B-9A1A-E7340C688577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67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F353-13A5-4536-9C4E-07D81DDE1C9A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D04F-313A-498C-829A-14B6D28B0A3A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71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7C7A-770E-4574-9554-4ADAD16DE722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2B77-A63C-47E1-BAD6-0E902C4F45DD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75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AA6A-ADD6-422D-BC5D-73495727AB22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0199-73D6-480E-998E-E640FC8E8E1C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79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B5A5-B881-452D-BD85-7EEBE462F516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E7CF-0EED-43A0-B68F-330D1DDF6756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83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91A9-A21F-4F4E-A42D-FC665A198E94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696F-C52E-426F-9584-6787E7EF67AC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87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0D20-FA03-46C8-9176-2932A9F407BF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2CF6-203F-496A-A669-3E5C70421CC6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91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1382-F0C3-44A1-957B-59E586FA2A2F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1B1B-3DC8-4061-9747-B7706E191A4A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95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B820-D7BD-46F0-A4D0-391DCD499024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E843-AD5D-4723-AA72-141F5370834F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99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0EBD-5425-48BF-857F-109DCA128E25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E7E48-3788-47A2-8ED5-1DB31B599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0FE2-5154-4F0A-BC54-1D7F0CD21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ADBDC-E05B-42A5-9826-1898823AE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F18E-310E-4A24-9F38-26792073C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305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86A87-3A15-4472-9E5D-9110B4EA6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608B7-6A9E-4F15-A484-5D88DD83C1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80A09-2B04-4BFB-BB8F-35B2309FC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D1920-AC2A-4DBE-AFB3-53F725A2B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305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0AE04-63D4-4D42-A517-3E697CCFE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ADF3-77B5-4AEB-9893-4BAD468F1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5B170-4722-4A40-BAF6-C30031D6EF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BFA8-4E76-4568-BDCA-F0E30312F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0" y="26208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  <a:ea typeface="黑体"/>
              </a:rPr>
              <a:t>《</a:t>
            </a:r>
            <a:r>
              <a:rPr b="1" lang="zh-CN" sz="1200" spc="-1" strike="noStrike">
                <a:solidFill>
                  <a:srgbClr val="ff3300"/>
                </a:solidFill>
                <a:latin typeface="Times New Roman"/>
                <a:ea typeface="黑体"/>
              </a:rPr>
              <a:t>计算机应用基础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  <a:ea typeface="黑体"/>
              </a:rPr>
              <a:t>》</a:t>
            </a:r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963720"/>
            <a:ext cx="9140760" cy="46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c71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C002-4232-4C49-AC99-9DC0C1058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4041720"/>
          </a:xfrm>
          <a:prstGeom prst="rect">
            <a:avLst/>
          </a:prstGeom>
          <a:gradFill rotWithShape="0">
            <a:gsLst>
              <a:gs pos="0">
                <a:srgbClr val="0c71e0"/>
              </a:gs>
              <a:gs pos="100000">
                <a:srgbClr val="0634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4933800"/>
            <a:ext cx="9163080" cy="194184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4826160"/>
            <a:ext cx="9156600" cy="168120"/>
          </a:xfrm>
          <a:prstGeom prst="rect">
            <a:avLst/>
          </a:prstGeom>
          <a:gradFill rotWithShape="0">
            <a:gsLst>
              <a:gs pos="0">
                <a:srgbClr val="8bc91b"/>
              </a:gs>
              <a:gs pos="100000">
                <a:srgbClr val="405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6" name="Freeform 5"/>
          <p:cNvSpPr/>
          <p:nvPr/>
        </p:nvSpPr>
        <p:spPr>
          <a:xfrm>
            <a:off x="-11160" y="2060640"/>
            <a:ext cx="9155160" cy="27655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7" name="Oval 8"/>
          <p:cNvSpPr/>
          <p:nvPr/>
        </p:nvSpPr>
        <p:spPr>
          <a:xfrm>
            <a:off x="228600" y="228600"/>
            <a:ext cx="479520" cy="479520"/>
          </a:xfrm>
          <a:prstGeom prst="ellipse">
            <a:avLst/>
          </a:prstGeom>
          <a:solidFill>
            <a:srgbClr val="8bc91b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c71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042920" y="1844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章  文字处理软件的应用</a:t>
            </a:r>
            <a:r>
              <a:rPr b="0" lang="zh-CN" sz="2400" spc="-1" strike="noStrike">
                <a:solidFill>
                  <a:srgbClr val="0c71e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28400" y="2214360"/>
            <a:ext cx="800100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保存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单击快速访问工具栏中的“保存”按钮，或 “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Office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按钮”→ “保存”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文档的第一次保存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如果是第一次保存，会弹出“另存为”对话框，在对话框中选择文档所要保存的位置 ，输入要保存的文件名，选择要保存的文件的格式（系统默认格式为“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Word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文档”），单击“保存”按钮即可。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WORD2007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文档的默认扩展名为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.DOCX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8492-C620-442D-B82D-35DDA4CCCE86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596240" y="135720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四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保存任务文档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400" y="2214720"/>
            <a:ext cx="84294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中文录入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用“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Ctrl+Shift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”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组合键切换不同中文输入法，在插入点后录入文本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英文录入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用“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Ctrl+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空格”在英文输入法与当前中文输入法之间进行快速切换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录入特殊字符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择“插入”选项卡 → 在“特殊符号组”里选择合适的符号，或单击符号按钮，再单击“更多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…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”，打开“插入特殊符号”窗口，找到所需的特殊符号后，双击即可在当前位置插入特殊字符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3FEF-9ADE-489A-93D1-5F2567DFB8E1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14240" y="1357200"/>
            <a:ext cx="44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五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录入文档内容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13880" y="2357280"/>
            <a:ext cx="72867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文本的选择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可以用键盘或鼠标进行文本的选择，结合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Shift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Ctrl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键可以进行多种方式的选择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文本的移动、复制与删除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编辑内容的撤消与恢复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377F-A182-4752-B75F-A004720437F4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714240" y="1357200"/>
            <a:ext cx="44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六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编辑任务文档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85880" y="2357280"/>
            <a:ext cx="75009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关闭当前文档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方法：单击文档窗口右上方的“关闭”按钮，或使用“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Office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按钮”中的“关闭”命令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退出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Word2007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方法：单击“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Office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按钮” → 退出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Word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”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按钮，系统会关闭所有的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Word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文档窗口，并退出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Word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程序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F053-75A1-43C8-B553-DE4EB1E1BF95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714240" y="1357200"/>
            <a:ext cx="44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七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 退出任务文档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28440" y="2214360"/>
            <a:ext cx="471492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页面视图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阅读版式视图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Web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版式视图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大纲视图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普通视图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0856-8639-4443-BDF6-EE112E0F51EC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14240" y="1357200"/>
            <a:ext cx="59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八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认识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Word2007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视图方式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FA88-36BA-438E-89D7-C94588501F11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文档属性的设置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密文档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查找与替换文本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9FB7-D953-4EE9-9FDB-C2C0D921D3A0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使读者能够掌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d 200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文本与段落格式设置的基本操作方法，为进一步美化文档奠定基础。</a:t>
            </a:r>
            <a:r>
              <a:rPr b="1" lang="zh-CN" sz="2800" spc="-1" strike="noStrike">
                <a:solidFill>
                  <a:srgbClr val="0c71e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CF5E-EC14-4A27-97CD-57F79711D800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375444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字体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字号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字形及字体效果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字符缩放、间距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段落对齐方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356000" y="1916280"/>
            <a:ext cx="43308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段落缩进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行间距与段间距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项目符号与编号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边框和底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首字下沉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28400" y="2214720"/>
            <a:ext cx="825804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中文字体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系统默认的中文字体是宋体，常用字体有：宋体、仿宋、黑体、楷体、隶书等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字体设置方法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要设置的文字，如标题“关于计算机技能大赛的通知”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择“开始”选项卡 → 单击“字体”下拉列表框右侧的下拉箭头 → 出现下拉列表框，拖动列表框右边的滚动条，选择合适的字体，如“方正舒体”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AA56-66ED-4B3E-AA2C-928C670E4A1C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599480" y="135720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一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字体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28400" y="2214360"/>
            <a:ext cx="825804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字号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系统默认字号为五号，字号大小有两种标准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号制：初号、小初、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……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、八号，字号的标称数越小，字形越大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磅制：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5.5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……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72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，字号的标称数越小，字形越小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字号设置方法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要设置的文字，如标题“关于计算机技能大赛的通知”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单击“开始”选项卡 → “字号”下拉列表框右侧的小箭头，弹出下拉列表框，选择合适的字号，如“一号”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B8FC-FA34-4DCC-920C-2933718582D6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456920" y="1357200"/>
            <a:ext cx="23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二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字号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428C-8534-4D98-B9F1-D22469CF086F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85840" y="1643040"/>
            <a:ext cx="8229600" cy="29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d 200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crosof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司推出的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境下的系列办公软件之一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d200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d200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版本的基础上进行了大规模的改进而来的，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d200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版本不但继承了历代版本的特长，而且根据用户的使用习惯和需求进行了更加人性化的改进。它既适合一般办公人员使用，又适合专业排版人员使用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57120" y="1928520"/>
            <a:ext cx="82584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加粗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选中文本，如标题文字“一、大赛项目与内容”，单击“字体”功能组中的“加粗”按钮，选中文字的字型变为加粗状态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斜体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选中文本，如“请同学们踊跃参加！”，单出“字体”功能组中的“斜体”按钮，选中文字的字型变为斜体状态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加下划线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选中文本，如“所制作的视频文件</a:t>
            </a:r>
            <a:r>
              <a:rPr b="0" lang="en-US" sz="2000" spc="-1" strike="noStrike">
                <a:solidFill>
                  <a:srgbClr val="333333"/>
                </a:solidFill>
                <a:latin typeface="宋体"/>
                <a:ea typeface="宋体"/>
              </a:rPr>
              <a:t>...</a:t>
            </a: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，单击“字体”组中的“下划线”旁边的小箭头，在弹出的列表框中选择“双下划线”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加着重号</a:t>
            </a: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选中文本，如“能独立播放的视频文件”，单击“字体”组右下角的“对话框启动器”按钮</a:t>
            </a:r>
            <a:r>
              <a:rPr b="0" lang="en-US" sz="20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在“字体”对话框中单击“着重号”下拉列表框，选择“</a:t>
            </a:r>
            <a:r>
              <a:rPr b="0" lang="en-US" sz="2000" spc="-1" strike="noStrike">
                <a:solidFill>
                  <a:srgbClr val="333333"/>
                </a:solidFill>
                <a:latin typeface="宋体"/>
                <a:ea typeface="宋体"/>
              </a:rPr>
              <a:t>.”,</a:t>
            </a: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再单击“确定”按钮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7AA8-7E57-4965-9F13-5DE74A60A6F7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825200" y="135720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三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字形及字体效果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8400" y="2214360"/>
            <a:ext cx="825804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字符缩放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选择文本，如“本校教学楼六层机房”，单击“字体”功能组右下角的“对话框启动器”按钮</a:t>
            </a:r>
            <a:r>
              <a:rPr b="0" lang="en-US" sz="2000" spc="-1" strike="noStrike">
                <a:solidFill>
                  <a:srgbClr val="333333"/>
                </a:solidFill>
                <a:latin typeface="宋体"/>
                <a:ea typeface="宋体"/>
              </a:rPr>
              <a:t>,</a:t>
            </a: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在“字体”对话框中单击“字符间距”选项卡，单击“缩放”后面的下拉列表框，选择</a:t>
            </a:r>
            <a:r>
              <a:rPr b="0" lang="en-US" sz="2000" spc="-1" strike="noStrike">
                <a:solidFill>
                  <a:srgbClr val="333333"/>
                </a:solidFill>
                <a:latin typeface="宋体"/>
                <a:ea typeface="宋体"/>
              </a:rPr>
              <a:t>150%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字符间距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择文本，如 “参赛选手依据大赛组委会提供的文档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…”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这一段内容，</a:t>
            </a: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在“字体”对话框中的“字符间距”选项卡中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，选择间距为“加宽”，磅值为“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1.5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磅”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EA4A-CC07-4C21-B294-3D5BEC440BFD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2703960" y="1357200"/>
            <a:ext cx="16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四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字符缩放、间距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14240" y="2357280"/>
            <a:ext cx="750096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居中对齐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利用“段落”功能组中的“居中对齐”按钮进行设置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右对齐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利用“段落”功能组中的“右对齐”按钮进行设置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分散对齐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利用“段落”功能组中的“分散对齐”按钮进行设置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8A45-02BA-4477-BCE6-83868EC12D0F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751760" y="135720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五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段落对齐方式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14240" y="2357280"/>
            <a:ext cx="750096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段落的缩进包括四种方式，即左缩进、右缩进、首行缩进和悬挂缩进，可以通过拖动标尺或段落命令两种方式完成，前者直接方便，后者容易精确定义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0607-A761-45D8-BED8-158F71A104B6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604880" y="135720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六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段落缩进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14240" y="2357280"/>
            <a:ext cx="750096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行间距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行间距是指段落中相邻两行之间的距离，段间距包括段前间距与段后间距，段前间距指当前段与上一段之间的距离，段后间距指当前段与下一段之间的距离。通过对间距的设置，可使文档的层次更加清晰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方法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宋体"/>
                <a:ea typeface="宋体"/>
              </a:rPr>
              <a:t>选中欲设置的段落，在“段落”对话框中设置“行距”、 “段前”、“段后”值后，单击“确定”按钮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8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2DDD-B01B-4E8A-8E48-F5F4F3750526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814400" y="135720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七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行间距与段间距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14240" y="2357280"/>
            <a:ext cx="750096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项目符号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需要设置项目符号的部分，如文档中的“一、大赛项目与内容”下面的三个小标题，再单击“段落”功能组中的“项目符号”按钮旁边的小箭头 ，下拉列表中选择合适的形状符号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项目编号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需要设置项目编号的部分，如文档内容中“三、成绩评定”下面的三个小标题。再单击“段落”功能组中的“编号”按钮旁边的小箭头，在弹出下拉列表中选择合适的格式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9DF0-F409-423A-97EE-A14FA1819730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814400" y="135720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八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项目符号与编号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14240" y="20718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段落边框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要设置边框的段落，如“二、比赛时间、地点”下面的内容，单击“段落”功能组中“边框”按钮旁边的小箭头，在弹出的列表中选择“外侧框线”，为选中的部分添加上外侧框线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字符边框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文本，如“三、成绩评定”下第二行的文字“规定部分” ，再单击“字体”功能组中的“字符边框”按钮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底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文本，如标题文字“关于计算机技能大赛的通知” ，单击“段落”功能组中“底纹”按钮旁边的小箭头，在打开主题颜色列表中选择准备应用的底纹，如“白色，背景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，深色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15%”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，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03C1-F55A-4AEA-95DD-CB1A6773564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678320" y="1357200"/>
            <a:ext cx="29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九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边框和底纹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85880" y="2285640"/>
            <a:ext cx="71438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设置方法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将光标定位于第一段文本中，单击“插入”选项卡，在“文本”功能组中单击“首字下沉”按钮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，选择“首字下沉选项”，在“首字下沉”对话框中设置位置为“下沉”，并设置字体及下沉行数，如字体为“幼圆”，下沉行数为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，再单击“确定”按钮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B48E-4AF4-4BF0-8B4F-A656FAADA141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1604880" y="135720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十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首字下沉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字体、段落的格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9055-17DD-4C4F-81F6-FA7BEE0150AC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000160" y="1714680"/>
            <a:ext cx="4500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关知识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样式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格式刷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超链接 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639E-E9ED-4950-8394-5BC1438C7FA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的页面格式及打印效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学习了设置字符和段落的格式之后，往往还要对整个版面的格式进行设置，以达到最好的打印效果。通过本任务的学习，要求读者掌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d200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页面格式设置的基本操作方法，并掌握分栏操作、页眉和页脚设置及文档的打印方法。</a:t>
            </a:r>
            <a:r>
              <a:rPr b="1" lang="zh-CN" sz="2800" spc="-1" strike="noStrike">
                <a:solidFill>
                  <a:srgbClr val="0c71e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B41E-81F6-4B02-8C45-9E2504324296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6840" y="2071440"/>
            <a:ext cx="7604280" cy="23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学习单元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4.1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制作基础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word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文档 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学习单元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4.2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制作各种表格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学习单元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4.3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制作电子小报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pic>
        <p:nvPicPr>
          <p:cNvPr id="100" name="Picture 7" descr="MCj04355460000[1]"/>
          <p:cNvPicPr/>
          <p:nvPr/>
        </p:nvPicPr>
        <p:blipFill>
          <a:blip r:embed="rId1"/>
          <a:stretch/>
        </p:blipFill>
        <p:spPr>
          <a:xfrm>
            <a:off x="6261120" y="4370400"/>
            <a:ext cx="2127240" cy="12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1169-A3F6-4AC5-8939-3CD760B5B9A1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的页面格式及打印效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999800" y="2385720"/>
            <a:ext cx="442908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纸张大小和方向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页边距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分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页眉与页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打印文档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的页面格式及打印效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7277-E3C4-48CF-8D45-ECAF64C96391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967760" y="1357200"/>
            <a:ext cx="30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一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纸张大小和方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9" name="内容占位符 2"/>
          <p:cNvSpPr/>
          <p:nvPr/>
        </p:nvSpPr>
        <p:spPr>
          <a:xfrm>
            <a:off x="714240" y="2357280"/>
            <a:ext cx="78584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宋体"/>
              </a:rPr>
              <a:t>Word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默认的纸张大小是办公中最常用的“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</a:rPr>
              <a:t>A4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设置纸张大小：单击“页面布局”选项卡， 在“页面设置”功能组中单击“纸张大小”按钮 ，再选择合适的页面大小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纸张方向有“纵向”和“横向”两种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设置纸张方向：单击“页面布局”选项卡，在“页面设置”功能组中单击“纸张方向”按钮 ，再按要求选择合适的方向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的页面格式及打印效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5AF0-BDDF-49AF-AA27-3714ECE83527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1530720" y="135720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二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页边距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13" name="内容占位符 2"/>
          <p:cNvSpPr/>
          <p:nvPr/>
        </p:nvSpPr>
        <p:spPr>
          <a:xfrm>
            <a:off x="714240" y="2357280"/>
            <a:ext cx="78584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方法：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单击“页面布局”→ “页面设置”→ 单击“页边距”按钮，在弹出的列表中选择合适的页边距类型即可。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如果需要的页边距类型在列表中没有列出，则需要选择列表底部的“自定义页边距”，再分别对上、下、左、右边距进行设置。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的页面格式及打印效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C454-EA30-47CC-9BE7-80A4ECE50B29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456920" y="1357200"/>
            <a:ext cx="23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三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分栏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17" name="内容占位符 2"/>
          <p:cNvSpPr/>
          <p:nvPr/>
        </p:nvSpPr>
        <p:spPr>
          <a:xfrm>
            <a:off x="714240" y="2357280"/>
            <a:ext cx="78584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采用分栏后，能够让整体页面布局错落有致，多种多样。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如要对该“通知”中正文第一段进行了分栏处理，操作方法如下：选中要设置分栏的段落，在“页面布局”选项卡的“页面设置”功能组中，单击“分栏”按钮 ，打开“分栏”对话框，选择“两栏”，单击“确定”按钮。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的页面格式及打印效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A3F1-E50C-4D7A-B682-70A0703AFA4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678320" y="1357200"/>
            <a:ext cx="29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四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页眉与页脚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1" name="内容占位符 2"/>
          <p:cNvSpPr/>
          <p:nvPr/>
        </p:nvSpPr>
        <p:spPr>
          <a:xfrm>
            <a:off x="285840" y="2071800"/>
            <a:ext cx="84294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插入页眉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方法：在“插入”选项卡中的“页眉和页脚”功能组中，单击“页眉”按钮 ，选择 “空白”选项，光标处于页眉编辑区，键入文字，并设置文字的字体后，单击 “关闭页眉和页脚”按钮退出页眉编辑状态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插入页脚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方法：单击“页脚”按钮，在弹出页脚列表中选择合适的模板，如“现代型（奇数页）”，系统会自动为页脚添加该模板的图形与页码，再键入内容，设置字体，最后退出页脚编辑状态即可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页码格式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单击“页码”，选择“设置页码格式”，在“页码格式”对话框中选择合适的编号格式后，单击“确定”按钮即可完成设置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的页面格式及打印效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E7F9-B9F0-4F22-ADD3-F229F76AC37C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456920" y="1357200"/>
            <a:ext cx="23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五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打印文档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500040" y="2071800"/>
            <a:ext cx="82152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打印预览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操作方法：单击“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Office”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按钮→“打印”→“打印预览”，当前窗口变为打印预览窗口，在此窗口中，可对文档的页面进行操作，预览完毕后单击“关闭预览”按钮返回到文档的编辑状态。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打印文档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操作方法：单击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Office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按钮→“打印”→“打印”，调出“打印”对话框，选择要使用的打印机、页面范围，并输入要打印的数量后，单击确定，即可将文档发送至指定的打印机进行打印。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“通知”中的页面格式及打印效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4BE8-5ED8-4006-A769-A2298E7B8884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1500120" y="1857240"/>
            <a:ext cx="45007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关知识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设置文字方向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设置分隔符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FC1E-A823-4D6E-9B02-AAA6AAAB419C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.2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各种表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14200" y="200016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d200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仅可以制作各种文本文档，而且可以用来制作各种表格。它在处理表格方面比以前的版本功能更为强大，操作也更方便。在本学习单元中，我们将制作一份学校常用的“课程表”，以此为例学习表格制作的一般方法， 再结合实战训练以达到熟练掌握各种表格的制作方法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720B-1D37-475C-A140-9C96EF9FB0C7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85520" y="1963440"/>
            <a:ext cx="3857400" cy="29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创建表格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认识表格工具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格内容的编辑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行、列的插入与删除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单元格的合并与拆分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4929120" y="1963800"/>
            <a:ext cx="385776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文字的格式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行高，列宽的调整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绘制斜线表头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设置边框与底纹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19F4-2CD0-4028-8F23-78EC13917013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599480" y="135720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一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创建表格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40" name="内容占位符 2"/>
          <p:cNvSpPr/>
          <p:nvPr/>
        </p:nvSpPr>
        <p:spPr>
          <a:xfrm>
            <a:off x="571680" y="2214720"/>
            <a:ext cx="7858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通过移动鼠标创建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择“插入”→ “表格”，单击“表格”按钮 ，在出现的“插入表格”列表区域中移动鼠标，选中需要的行、列，单击鼠标左键后即可插入表格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使用对话框创建表格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在单击“表格”按钮后，选择“插入表格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…”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，在“插入表格”对话框 中，输入列数、行数，再单击“确定”按钮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绘制表格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单击“表格”按钮后，选择“绘制表格”，指针会变为铅笔状，先绘制一个矩形，以定义表格的外边界，然后在该矩形内绘制列线和行线。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216D-4938-4834-B2B9-A889E3117534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.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基础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ord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文档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学习单元的内容将分解为以下三个任务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创建技能大赛文档并录入内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置比赛通知中字体、段落的格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赛通知的整体页面设置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E418-D1C8-4FA3-8B8C-25F179DDB100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604880" y="135720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二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认识表格工具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44" name="内容占位符 2"/>
          <p:cNvSpPr/>
          <p:nvPr/>
        </p:nvSpPr>
        <p:spPr>
          <a:xfrm>
            <a:off x="571680" y="2214720"/>
            <a:ext cx="7858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在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Word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文档中，当表格处于操作状态时，会自动激活功能区中的 “表格工具”，包括“设计”与“布局”两个选项卡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indent="35892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计”选项卡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该选项卡主要对表格的外观、样式进行设计。包括“表格样式选项”、“表样式”、“绘图边框”功能组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indent="35892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布局”对话框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主要对表格的布局进行编辑。包括“表”、“行和列”、“合并”、“单元格大小”、“对齐方式”及“数据”功能组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1DA2-EF4A-4A05-8201-25D514D04543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678320" y="1357200"/>
            <a:ext cx="29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三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表格内容的编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48" name="内容占位符 2"/>
          <p:cNvSpPr/>
          <p:nvPr/>
        </p:nvSpPr>
        <p:spPr>
          <a:xfrm>
            <a:off x="1071720" y="2214720"/>
            <a:ext cx="6715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录入表格的基本内容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表格内容的选择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包括单个单元格、连续单元格、不连续的单元格、整行、整列及整个表格的选择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表格内容的复制、移动与删除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53C0-C42E-4249-8FB1-BBD5BDE1600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825200" y="135720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四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行、列的插入与删除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52" name="内容占位符 2"/>
          <p:cNvSpPr/>
          <p:nvPr/>
        </p:nvSpPr>
        <p:spPr>
          <a:xfrm>
            <a:off x="642960" y="2143080"/>
            <a:ext cx="771516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插入行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择行，在表格工具中的“布局”选项卡中选择“行和列”功能组，再根据要求单击“在上方插入”按钮或“在下方插入”按钮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插入列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择列，在表格工具中的“布局”选项卡中选择“行和列”功能组，再根据要求单击“在左方插入”按钮或“在右方插入”按钮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行或列的删除方法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先将当前插入点置于要删除的行或列中，再单击“行和列”功能组中“删除”按钮 ，在列表中选择“删除行”或“删除列”即可。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FE11-D2EA-44F5-AC4D-12C8C1A3FDC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814400" y="135720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五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单元格的合并与拆分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56" name="内容占位符 2"/>
          <p:cNvSpPr/>
          <p:nvPr/>
        </p:nvSpPr>
        <p:spPr>
          <a:xfrm>
            <a:off x="642960" y="2143080"/>
            <a:ext cx="79297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单元格的合并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要合并的单元格， 选择 “布局”选项卡中的“合并”功能组，再单击“合并单元格”按钮 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单元格的拆分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择要拆分的单元格（或要重新拆分的多个连续的单元格），单击“合并”功能组中的“拆分单元格”按钮 ，在“拆分单元格”对话框中输入拆分后单元格的行数和列数 ，单击“确定”按钮，即可实现单元格的拆分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B77A-D998-41C6-BB1D-5C68B11CFF56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678320" y="13572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六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文字的格式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60" name="内容占位符 2"/>
          <p:cNvSpPr/>
          <p:nvPr/>
        </p:nvSpPr>
        <p:spPr>
          <a:xfrm>
            <a:off x="642960" y="2143080"/>
            <a:ext cx="79297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字体格式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与普通文本的设置方法相同 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文字方向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要设置文字方向的单元格，单击“布局”选项卡“对齐”功能组中的“文字方向”按钮 ，文字方向会自动切换为“垂直”方式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单元格的对齐方式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要设置对齐的单元格， 选择“布局”选项卡，在“对齐方式”功能组中单击合适的对齐方式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51CC-68E6-471C-98AA-EAAD1FC8D5D0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751760" y="135720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七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行高，列宽的调整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64" name="内容占位符 2"/>
          <p:cNvSpPr/>
          <p:nvPr/>
        </p:nvSpPr>
        <p:spPr>
          <a:xfrm>
            <a:off x="1357200" y="2286000"/>
            <a:ext cx="607248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用鼠标拖动的方法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平均分布行高与列宽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精确设定行高与列宽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0327-2C6B-4A7F-80B1-4EDC9A8250C7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604880" y="135720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八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绘制斜线表头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68" name="内容占位符 2"/>
          <p:cNvSpPr/>
          <p:nvPr/>
        </p:nvSpPr>
        <p:spPr>
          <a:xfrm>
            <a:off x="642960" y="2214720"/>
            <a:ext cx="707220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方法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将当前插入点定位于表格内，单击“布局”选项卡“表”功能组中的“绘制斜线表头”按钮，弹出“插入斜线表头”对话框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择“表头样式”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择“字体大小”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输入行标题与列标题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单击确定后，就会在表格的第一行第一列处插入表头。单击生成的斜线表头，移动控制点使其适合所在单元格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0AFB-64BF-4854-8002-09C5FC5EBA56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678320" y="13572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九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边框与底纹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72" name="内容占位符 2"/>
          <p:cNvSpPr/>
          <p:nvPr/>
        </p:nvSpPr>
        <p:spPr>
          <a:xfrm>
            <a:off x="928800" y="2286000"/>
            <a:ext cx="535788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表格外部框线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表格内部框线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底纹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课程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85C2-ABDE-48C3-99D0-70ED6BF3BE93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500120" y="1857240"/>
            <a:ext cx="55720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关知识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文本与表格的转换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表格的拆分与合并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自动套用格式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表格的计算与排序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表格内容跨页时表头的设置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10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" dur="1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1F85-6D5B-4937-9AE8-EC763AD890EC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.3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电子小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28800" y="1785600"/>
            <a:ext cx="617544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学习单元的内容将分解为以下两个任务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作新年贺卡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作招生简章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C362-6CEA-47CD-8488-D94F6C488EA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熟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d200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操作环境，了解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d200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辑窗口的基本使用，包括文本输入、文本编辑、文本的保存与退出等。会使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d200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供的各种视图方便地查看文档。</a:t>
            </a:r>
            <a:r>
              <a:rPr b="1" lang="zh-CN" sz="2800" spc="-1" strike="noStrike">
                <a:solidFill>
                  <a:srgbClr val="0c71e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A660-A4D2-499C-A18D-7B87B69B0F1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达到对图文混排中常用功能的熟练操作，如在制作贺卡的过程中，使读者掌握图片、剪贴画、艺术字、文本框等对象的插入及格式设置方法，为制作更复杂的综合排版奠定基础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BFA9-3158-4BD5-908B-2DF30FE5C39C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375444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页面设置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插入图片与剪贴画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文字环绕方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整图片位置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整图片大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56000" y="1916280"/>
            <a:ext cx="43308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整图片效果与样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插入自选图形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插入与编辑艺术字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使用文本框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0A97-1B4B-453A-B1F2-9EE64904ED53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599840" y="1357200"/>
            <a:ext cx="20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一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页面设置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89" name="内容占位符 2"/>
          <p:cNvSpPr/>
          <p:nvPr/>
        </p:nvSpPr>
        <p:spPr>
          <a:xfrm>
            <a:off x="928800" y="2286000"/>
            <a:ext cx="742932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基本页面设置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设置纸张大小及纸张方向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页面边框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页面填充效果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E401-5890-45CD-9E59-E073FC875D1D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1751760" y="135720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二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插入图片与剪贴画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93" name="内容占位符 2"/>
          <p:cNvSpPr/>
          <p:nvPr/>
        </p:nvSpPr>
        <p:spPr>
          <a:xfrm>
            <a:off x="1285920" y="2357280"/>
            <a:ext cx="578628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插入外部图片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插入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</a:rPr>
              <a:t>OFFICE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自带的剪贴画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插入“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</a:rPr>
              <a:t>WEB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收藏集”中的剪贴画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CC77-31F9-4A2C-A3CF-A6128F8C36C7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741680" y="135720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三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设置文字环绕方式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97" name="内容占位符 2"/>
          <p:cNvSpPr/>
          <p:nvPr/>
        </p:nvSpPr>
        <p:spPr>
          <a:xfrm>
            <a:off x="714240" y="2357280"/>
            <a:ext cx="771552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文字环绕方式介绍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环绕方式包括：嵌入型、四周型环绕、紧密型环绕、衬于文字下方、浮于文字上方、上下型环绕、穿越型环绕及编辑环绕顶点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图片的文字环绕方式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中图片，选择图片工具的“格式”选项卡 ，在“排列”功能组中单击“文字环绕”按钮 ，选择合适的环绕方式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8AA1-D0D9-493D-8902-14A639DAAD65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604880" y="135720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四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调整图片位置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01" name="内容占位符 2"/>
          <p:cNvSpPr/>
          <p:nvPr/>
        </p:nvSpPr>
        <p:spPr>
          <a:xfrm>
            <a:off x="1428840" y="2428920"/>
            <a:ext cx="41432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用鼠标直接拖动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利用“位置”按钮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进行精确定位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8C91-35A3-49D5-9D6B-3416F1FFD720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596240" y="135720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五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调整图片大小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05" name="内容占位符 2"/>
          <p:cNvSpPr/>
          <p:nvPr/>
        </p:nvSpPr>
        <p:spPr>
          <a:xfrm>
            <a:off x="1428840" y="2428920"/>
            <a:ext cx="41432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拖动鼠标调整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精确调整图片大小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裁剪图片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EE17-31A9-4B9E-BA8E-EA108F870C2F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1825200" y="135720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六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调整图片效果与样式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09" name="内容占位符 2"/>
          <p:cNvSpPr/>
          <p:nvPr/>
        </p:nvSpPr>
        <p:spPr>
          <a:xfrm>
            <a:off x="1428840" y="2428920"/>
            <a:ext cx="41432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调整图片的亮度与对比度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图片中的透明色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图片样式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968D-6E09-4DFC-B83D-1396352813F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1604880" y="135720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七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插入自选图形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13" name="内容占位符 2"/>
          <p:cNvSpPr/>
          <p:nvPr/>
        </p:nvSpPr>
        <p:spPr>
          <a:xfrm>
            <a:off x="1428840" y="2428920"/>
            <a:ext cx="41432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绘制自选图形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图形的旋转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设置自选图形的形状样式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组合图形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C1AF-574A-4EA5-960D-31A3D7357E46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1751760" y="135720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八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插入与编辑艺术字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内容占位符 2"/>
          <p:cNvSpPr/>
          <p:nvPr/>
        </p:nvSpPr>
        <p:spPr>
          <a:xfrm>
            <a:off x="714240" y="2357280"/>
            <a:ext cx="80010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插入艺术字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选择“插入”选项卡，在“文本”组中单击“艺术字”按钮 ，选择合适的艺术字样式，在弹出的“编辑艺术字文字”对话框输入文字后单击“确定”按钮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编辑艺术字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包括更改艺术字外形、更改三维效果、更改艺术字颜色、更改阴影颜色等。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4CAD-A5DA-40C3-BA00-72C79F8D6481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375444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启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ord2007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认识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ord200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界面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创建任务文档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存任务文档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56000" y="1916280"/>
            <a:ext cx="43308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录入任务文档内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编辑任务文档内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退出任务文档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认识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ord200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视图方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7933-A096-407E-9847-B74E67284465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1530720" y="135720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九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使用文本框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内容占位符 2"/>
          <p:cNvSpPr/>
          <p:nvPr/>
        </p:nvSpPr>
        <p:spPr>
          <a:xfrm>
            <a:off x="714240" y="2357280"/>
            <a:ext cx="80010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插入文本框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使用内置样式的文本框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绘制文本框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绘制竖排文本框</a:t>
            </a:r>
            <a:endParaRPr b="0" lang="en-US" sz="20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编辑文本框中的文本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隐藏文本框的边框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4EB0-5AFB-4B9E-9027-35DEA9D166A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5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新年贺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1357200" y="1571760"/>
            <a:ext cx="585792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关知识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超链接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公式的使用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在文档中插入脚注和尾注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插入题注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创建目录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邮件合并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修订功能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8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2" dur="1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6" dur="1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" dur="10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C41A-1132-4657-97D0-47CA6EFEB350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使读者进一步掌握图文混排的基本方法，综合应用本章所学知识，制作一份图文表并茂的综合排版样张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6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招生简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E42A-9D5E-4744-A134-86B1B9029644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375444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页面设置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作标题内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录入文字内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编辑“学校概况”部分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编辑“招生计划”部分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356000" y="1916280"/>
            <a:ext cx="43308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插入“招生专业人数比例”图表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插入“专业分布图”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编辑“助学办法”与“继续深造”部分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编辑“联系方式”部分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页眉、页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118836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6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制作招生简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8522-0AB1-415E-904A-BA5032344053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335" name="WordArt 2"/>
          <p:cNvSpPr txBox="1"/>
          <p:nvPr/>
        </p:nvSpPr>
        <p:spPr>
          <a:xfrm>
            <a:off x="2556000" y="2565360"/>
            <a:ext cx="4176720" cy="11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大家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28400" y="2142720"/>
            <a:ext cx="825804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当用户电脑中安装有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Microsoft Office 2007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时，启动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Word2007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的方法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单击“开始”→“程序”→“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Microsoft Office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→“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Microsoft Office Word 2007”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如果桌面上已经创建了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Word 2007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快捷图标，可双击该快捷图标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D0EB-B9D6-4710-9035-51C8137EEB69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365120" y="1357200"/>
            <a:ext cx="34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一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启动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Word2007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1857240" y="4357800"/>
            <a:ext cx="928800" cy="9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0C9E-DCBF-44A5-9DD1-8240842433F5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369440" y="1357200"/>
            <a:ext cx="40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二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认识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Word2007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界面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pic>
        <p:nvPicPr>
          <p:cNvPr id="120" name="图片 6" descr="未命名-1.jpg"/>
          <p:cNvPicPr/>
          <p:nvPr/>
        </p:nvPicPr>
        <p:blipFill>
          <a:blip r:embed="rId1"/>
          <a:stretch/>
        </p:blipFill>
        <p:spPr>
          <a:xfrm>
            <a:off x="214200" y="1928880"/>
            <a:ext cx="87156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创建技能大赛文档并录入内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14240" y="2285640"/>
            <a:ext cx="75009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启动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Word2007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以后，系统会自动生成一个名为“文档</a:t>
            </a:r>
            <a:r>
              <a:rPr b="1" lang="en-US" sz="2400" spc="-1" strike="noStrike">
                <a:solidFill>
                  <a:srgbClr val="333333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的空白文档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创建新文档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单击“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Office</a:t>
            </a:r>
            <a:r>
              <a:rPr b="0" lang="zh-CN" sz="2000" spc="-1" strike="noStrike">
                <a:solidFill>
                  <a:srgbClr val="333333"/>
                </a:solidFill>
                <a:latin typeface="Arial"/>
                <a:ea typeface="宋体"/>
              </a:rPr>
              <a:t>按钮”→“新建”，打开对话框后，选择“空白文档”，再单击右下方的“创建”按钮，系统便会生成一个新的文档，并将新文档作为当前文档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5FA4-8C58-4695-A522-708F3929EA44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604880" y="135720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第三步</a:t>
            </a:r>
            <a:r>
              <a:rPr b="1" lang="en-US" sz="2800" spc="-1" strike="noStrike">
                <a:solidFill>
                  <a:srgbClr val="0c71e0"/>
                </a:solidFill>
                <a:latin typeface="Times New Roman"/>
              </a:rPr>
              <a:t>】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</a:rPr>
              <a:t>创建任务文档</a:t>
            </a: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4T01:59:57Z</dcterms:created>
  <dc:creator>subin</dc:creator>
  <dc:description/>
  <dc:language>en-US</dc:language>
  <cp:lastModifiedBy>subin</cp:lastModifiedBy>
  <dcterms:modified xsi:type="dcterms:W3CDTF">2009-08-30T03:02:47Z</dcterms:modified>
  <cp:revision>166</cp:revision>
  <dc:subject/>
  <dc:title>计算机应用基础</dc:title>
</cp:coreProperties>
</file>