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C8C7-C4C7-4143-957B-68D27AF7E50A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30A2-BBB5-455E-B30C-07F56205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B1EC-DDF5-41E7-829B-240A5073A01A}" type="datetime">
              <a:rPr b="0" lang="zh-CN" sz="1200" spc="-1" strike="noStrike">
                <a:solidFill>
                  <a:srgbClr val="0c71e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0C7E-159F-427A-BBA2-7A27C1F8680F}" type="slidenum">
              <a:rPr b="0" lang="en-US" sz="12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9152-E712-4804-8A23-B215D27E7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0823-463F-4E05-AD8C-F45B3D79B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9F05-8478-4827-83F0-91AB0DF0D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67F9-589C-44FC-A594-9F162DDFA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8565-6277-4F8C-B78C-F175698C2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FCDD-0846-4DD3-A325-6FF0125BA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0DD4-E34E-42F7-9174-60DA478F1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06FC-7E28-4C29-86C0-2EFCA9440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305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B87C-7AE7-451D-B7F3-AD34974E9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3C84-407A-4AB1-B689-1232EED5C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C50F-EA2B-47E6-93C7-543125745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823D-A1FD-4AF3-9D94-06614CF7F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2620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c7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计算机应用基础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12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C03D-23B0-4829-BD72-9D6E7736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c71e0"/>
              </a:gs>
              <a:gs pos="100000">
                <a:srgbClr val="063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8bc9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8bc91b"/>
              </a:gs>
              <a:gs pos="100000">
                <a:srgbClr val="405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-11160" y="2060640"/>
            <a:ext cx="9155160" cy="276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28600" y="228600"/>
            <a:ext cx="479520" cy="479520"/>
          </a:xfrm>
          <a:prstGeom prst="ellipse">
            <a:avLst/>
          </a:prstGeom>
          <a:solidFill>
            <a:srgbClr val="8bc91b"/>
          </a:solidFill>
          <a:ln w="9360">
            <a:solidFill>
              <a:srgbClr val="0c7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c71e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c9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c71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c71e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835280" y="184464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章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indows XP</a:t>
            </a:r>
            <a:endParaRPr b="0" lang="en-US" sz="4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1E62-A456-4DC9-AB99-66CD8C0586E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桌面图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任务栏和开始菜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操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窗口与对话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CC13-0554-426A-9237-3D31A06A69D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鼠标操作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的帮助功能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快捷键的使用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BC0A-8EFC-40E9-B82D-785ED16172C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双击桌面上的“我的文档”图标，观察打开的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指出窗口的各组成部分名称，然后分别单击窗口右上角的、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和按钮，观察窗口发生怎样的变化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通过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Windows XP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桌面，打开“我的电脑”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并完成移动窗口、改变窗口大小、排列窗口（打开多个窗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）、最大化、最小化、关闭窗口等操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在“我的电脑”窗口，观察“查看”菜单中哪些菜单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打开对话框？哪些菜单含有下一级菜单？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．双击桌面“我的电脑”图标，打开“我的电脑”窗口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分别浏览“文件”菜单和“编辑”菜单，观察所包含的菜单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宋体"/>
              </a:rPr>
              <a:t>令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8A9-051C-4D93-9FFA-47A7675B6B7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2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文件资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资源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我的文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5266-4F6C-4B4A-BD7A-D5A8DB1EC30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要熟练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源管理器来管理自己的数据资源。主要包括资源管理器以及文件、文件夹显示属性的设置等内容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9AD5-89A0-4C64-942F-D50177215C0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824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“资源管理器”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认识“资源管理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文件夹列表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文件与文件夹的显示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8751-98E7-4D7C-A703-941F9915E5C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及文件系统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夹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D7E6-2566-4F6B-B338-2D622507DB8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打开“我的文档”文件夹，它包含哪几种不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类型的文件夹图标？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在“资源管理器”窗口中展开一个文件夹，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分别使用“查看”菜单中的“名称”、“类型”、“大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”和“修改时间”排列图标，观察窗口文件列表的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列方式有何不同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启动“资源管理器”，以“缩略图”的方式查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tur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夹下的所有图片文件，并显示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的扩展名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资源管理器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9BE-AA28-4CC2-AB6E-28899DC8AD9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427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掌握文件及文件夹的基本操作，如文件及文件夹的创建、选择、复制和删除等操作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9B2-BF89-4976-A7BB-77D92CA3230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4824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建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重命名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选择文件或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复制、移动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删除与恢复文件和文件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4988-BCC3-432D-BE65-629CE88E139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系统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perating Syste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简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管理计算机软硬件资源并为用户提供操作环境的的系统软件，是计算机系统的内核与基石。它使计算机系统所有资源最大限度地发挥作用，也为用户提供了方便、有效、友善的服务界面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ED9-D2FB-4596-AB8C-9275F9427FD5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回收站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文件或文件夹的搜索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CF5B-DD36-4119-8604-1E87613C400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我的文档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分别创建名称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文件夹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在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夹中建立一个文本文件，文件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内容自定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分别创建桌面快捷方式和快捷方式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双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的快捷方式，观察操作结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至少采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不同的方法将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Jianli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复制到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文件夹中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删除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yfile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文件夹及桌面快捷方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并清空回收站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文件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CDE-416D-4F80-89E9-C7F4E60DB8F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3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建立简单文档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写字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B2C-C923-4B82-9AB8-382204F8AB5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了解写字板的基本操作，能进行中英文输入法的切换，并熟练掌握一两种常用的中文输入法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E53-B0B0-4B1D-B3D3-83C23B35F8BE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3754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写字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英文输入法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40FD-1731-4228-BA5E-2484E0BAC6A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入法选择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汉字编码方法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F74C-86D0-422B-B076-DC82A29BABD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写字板，使用搜狗拼音输入法或其他输入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，输入如下一段文字，然后保存起来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极光是一种大气光学现象。当太阳黑子、耀斑活动剧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烈时，太阳发出大量强烈的带电粒子流，沿着地磁场的磁线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向南北两极移动，它以极快的速度进入地球大气的上层，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能量相当于几万或几十万颗氢弹爆炸的威力。由于带电粒子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速度很快，碰撞空气中的原子时，原子外层的电子便获得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量。当这些电子获得的能量释放出来，便会辐射出一种可见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的光束，这种迷人的色彩就是极光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写字板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001-8FAD-4D10-8359-7910D83305C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了解画图工具的使用方法，并能进行简单的图片处理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0FBE-A597-4977-BEB5-5CE6AE00EEE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画图程序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创建及处理图片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ED52-7262-42B0-A77F-D64BA80944A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使用画图程序打开一幅图片，将图片分别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做水平翻转、垂直翻转及按一定角度旋转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使用画图程序绘制一个奥运五环标记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画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B091-95B4-4E06-B404-B00AC3812927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1  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Windows XP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2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管理文件资料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3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建立简单文档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4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管理我的计算机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c71e0"/>
                </a:solidFill>
                <a:latin typeface="Verdana"/>
                <a:ea typeface="宋体"/>
              </a:rPr>
              <a:t>2.5  </a:t>
            </a:r>
            <a:r>
              <a:rPr b="1" lang="zh-CN" sz="3200" spc="-1" strike="noStrike">
                <a:solidFill>
                  <a:srgbClr val="0c71e0"/>
                </a:solidFill>
                <a:latin typeface="Verdana"/>
                <a:ea typeface="宋体"/>
              </a:rPr>
              <a:t>维护我的计算机</a:t>
            </a:r>
            <a:endParaRPr b="1" lang="en-US" sz="3200" spc="-1" strike="noStrike">
              <a:solidFill>
                <a:srgbClr val="0c71e0"/>
              </a:solidFill>
              <a:latin typeface="Verdana"/>
            </a:endParaRPr>
          </a:p>
        </p:txBody>
      </p:sp>
      <p:pic>
        <p:nvPicPr>
          <p:cNvPr id="100" name="Picture 7" descr="MCj04355460000[1]"/>
          <p:cNvPicPr/>
          <p:nvPr/>
        </p:nvPicPr>
        <p:blipFill>
          <a:blip r:embed="rId1"/>
          <a:stretch/>
        </p:blipFill>
        <p:spPr>
          <a:xfrm>
            <a:off x="6261120" y="4370400"/>
            <a:ext cx="21272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9834-9FEE-4183-842D-9EBA4CEBFCA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4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管理我的计算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系统属性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的安装与卸载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FF3-DAA6-4829-AC97-978A3BD2ED8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熟悉利用控制面板设置系统属性的基本方法，包括桌面、鼠标等属性的设置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D9B6-1B33-42C3-86F0-E9E7851751F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339640" y="2060640"/>
            <a:ext cx="3754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打开“控制面板”窗口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设置鼠标和键盘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美化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A949-CF16-456E-9ED5-8975E257B06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键盘属性”对话框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置屏幕保护程序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414-7DAF-440F-9B69-3B9355A314B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鼠标指针方案为“变奏”，观察设置的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分别设置鼠标滚轮的滚动幅度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和一个屏幕，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然后打开一个含有多页的长文档，观察设置的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桌面的主题和背景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⑴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显示属性”对话框的“主题”下拉列表中，分别选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择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经典”作为主题，观察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屏幕设置效果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⑵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桌面”选项卡中，选择不同的背景文件名，观察预览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⑶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“桌面”选项卡中，找一张照片作为桌面背景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．设置屏幕保护程序和外观：在“屏幕保护程序”选项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卡中，选择屏幕保护图形为“飞越星空”、等待时间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钟，并预览效果。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置系统属性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7C26-FFBA-4123-835B-76043CD7C41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使读者学会应用软件的安装、卸载以及外部设备驱动程序的安装操作，并了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的使用方法。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4B56-9239-48EA-B6B6-386EBC7D8BD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装和卸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软件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装和使用打印机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152A-D69B-409A-94B4-BDAED906FDA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压缩文件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压压缩文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部设备的安装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619-4A71-4AF3-A836-4A00735FFAD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将你电脑中的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卸载，并重新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的最新版本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利用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WinRAR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将“我的文档”文件夹压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缩为“我的文档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.rar”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，并保存到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盘中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如果有扫描仪或数码相机，试将其连接到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计算机上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软件的安装与卸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8290-2080-488C-94DA-A6AB87D5F144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5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维护我的计算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三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磁盘管理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病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备份与恢复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B08-EC87-4906-8CA2-98CDB0C3738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单元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.1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使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学习单元的内容将分解为以下两个任务：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与退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面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AF4B-2A78-4508-AC85-49FBF264882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计算机使用一段时间之后，硬盘上将会产生很多磁盘碎片或大量的临时文件，致使磁盘运行空间不足，系统运行越来越慢，计算机性能下降。通过本任务的学习，将学会使用磁盘碎片整理程序和磁盘清理程序维护计算机，提高计算机的性能。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40B4-80EC-4DBD-BC7D-806FA212A00C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整理磁盘碎片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理磁盘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1E9B-996B-4687-AD70-D1BA85A69B2D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磁盘管理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启动磁盘管理程序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09E-A499-4DD6-AABC-3E491D57DD9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对你使用的计算机的系统盘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）进行碎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片整理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对你使用的计算机磁盘进行磁盘清理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磁盘管理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E94-3977-40B8-8B07-18423E3DA59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互联网的迅猛发展，各种病毒也层出不穷，给人们的工作和生活带来了极大的危害，本任务主要教给大家防病毒的基本知识。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E049-1821-4FAA-B914-FCED3DCCDCD2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了解计算机病毒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安全卫士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8EE-1925-4D6C-A2D2-EBDC0515DE3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SET NOD3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毒软件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创建用户账户</a:t>
            </a:r>
            <a:r>
              <a:rPr b="1" lang="zh-CN" sz="2800" spc="-1" strike="noStrike">
                <a:solidFill>
                  <a:srgbClr val="0c71e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1FC-A8D0-4471-9A57-CC0A4F70BBB8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360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安全卫士，使用它提供的各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种功能保护计算机的安全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．下载安装</a:t>
            </a: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宋体"/>
              </a:rPr>
              <a:t>ESET NOD32</a:t>
            </a: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软件，并使用其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Verdana"/>
                <a:ea typeface="宋体"/>
              </a:rPr>
              <a:t>查杀病毒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防治病毒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3CE-7BD0-4D52-BE4D-54370E21C8A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计算机的使用过程中，要养成定期备份重要数据的习惯，以避免因不当操作导致数据丢失，给自己的学习和工作带来一定的麻烦，本任务将教给大家备份和还原数据的基本方法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C2A1-0321-49BA-81B4-9DC0D67654F9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050920" y="2492280"/>
            <a:ext cx="5400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备份数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还原数据</a:t>
            </a:r>
            <a:endParaRPr b="0" lang="en-US" sz="2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637C-3477-4402-AB6B-1B20A939E7B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熟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工作环境，掌握启动与退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基本方法，并了解操作系统的特点、功能及类型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D3B7-603A-40A3-B710-542972DE43AB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rton Ghost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键还原精灵 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29F2-46D0-4A14-B8BC-A57A8097CAB6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利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自带的备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具，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中的“学生数据”文件夹中的数据备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中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试利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rton Gho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软件备份和还原操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系统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数据的备份与恢复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94A3-316E-42A6-A2F2-5B34A1D787AA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257" name="WordArt 2"/>
          <p:cNvSpPr txBox="1"/>
          <p:nvPr/>
        </p:nvSpPr>
        <p:spPr>
          <a:xfrm>
            <a:off x="2556000" y="2565360"/>
            <a:ext cx="4176720" cy="11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62C9-AD14-4932-9029-E51E20BEA1F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39640" y="2349000"/>
            <a:ext cx="37544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启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退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en-US" sz="2400" spc="-1" strike="noStrike">
                <a:solidFill>
                  <a:srgbClr val="0c71e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152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任务实施步骤</a:t>
            </a:r>
            <a:r>
              <a:rPr b="0" lang="zh-CN" sz="2800" spc="-1" strike="noStrike">
                <a:solidFill>
                  <a:srgbClr val="0c71e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04EF-6BE7-45A9-87FD-99CE0371380F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关知识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的功能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系统的特点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三个版本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309D-9D1C-4C3D-8C74-791F2B570BF3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战训练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别选择“关闭计算机”对话框中的“待机”、“关闭”和“重新启动”选项，观察三者操作有什么不同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39640" y="3333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启动与退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endParaRPr b="0" lang="en-US" sz="2800" spc="-1" strike="noStrike">
              <a:solidFill>
                <a:srgbClr val="0c71e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771-9244-4710-B629-DC3D72B67141}" type="slidenum">
              <a:rPr b="0" lang="en-US" sz="1400" spc="-1" strike="noStrike">
                <a:solidFill>
                  <a:srgbClr val="0c71e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c71e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任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认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Windows XP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界面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2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71e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分析：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本任务的学习，掌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桌面的组成以及各基本元素的操作，为进一步学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ndows X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系统奠定基础 。</a:t>
            </a:r>
            <a:endParaRPr b="1" lang="en-US" sz="2800" spc="-1" strike="noStrike">
              <a:solidFill>
                <a:srgbClr val="0c71e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1:59:57Z</dcterms:created>
  <dc:creator>wtj</dc:creator>
  <dc:description/>
  <dc:language>en-US</dc:language>
  <cp:lastModifiedBy>USER</cp:lastModifiedBy>
  <dcterms:modified xsi:type="dcterms:W3CDTF">2009-09-11T05:50:40Z</dcterms:modified>
  <cp:revision>123</cp:revision>
  <dc:subject/>
  <dc:title>图书馆资源整合与门户建设</dc:title>
</cp:coreProperties>
</file>