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7" descr=""/>
          <p:cNvPicPr/>
          <p:nvPr/>
        </p:nvPicPr>
        <p:blipFill>
          <a:blip r:embed="rId2"/>
          <a:srcRect l="58935" t="14564" r="26538" b="68711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9"/>
          <p:cNvSpPr/>
          <p:nvPr/>
        </p:nvSpPr>
        <p:spPr>
          <a:xfrm>
            <a:off x="196920" y="0"/>
            <a:ext cx="7938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6" descr=""/>
          <p:cNvPicPr/>
          <p:nvPr/>
        </p:nvPicPr>
        <p:blipFill>
          <a:blip r:embed="rId3"/>
          <a:srcRect l="22688" t="24413" r="22688" b="25393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7"/>
          <p:cNvSpPr/>
          <p:nvPr/>
        </p:nvSpPr>
        <p:spPr>
          <a:xfrm>
            <a:off x="0" y="1066680"/>
            <a:ext cx="9220320" cy="152640"/>
          </a:xfrm>
          <a:prstGeom prst="rect">
            <a:avLst/>
          </a:pr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29"/>
          <p:cNvSpPr/>
          <p:nvPr/>
        </p:nvSpPr>
        <p:spPr>
          <a:xfrm>
            <a:off x="2571480" y="228600"/>
            <a:ext cx="405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</a:rPr>
              <a:t>第二章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数控机床的机械结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 rot="11352000">
            <a:off x="1599840" y="1599840"/>
            <a:ext cx="504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447920" y="1218960"/>
            <a:ext cx="4876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2.3</a:t>
            </a:r>
            <a:r>
              <a:rPr b="0" lang="zh-CN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数控机床进给传动系统的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13"/>
          <p:cNvSpPr/>
          <p:nvPr/>
        </p:nvSpPr>
        <p:spPr>
          <a:xfrm rot="20990400">
            <a:off x="1752480" y="5181480"/>
            <a:ext cx="1527120" cy="1222560"/>
          </a:xfrm>
          <a:prstGeom prst="flowChartPunchedTap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4"/>
          <p:cNvSpPr/>
          <p:nvPr/>
        </p:nvSpPr>
        <p:spPr>
          <a:xfrm rot="21357000">
            <a:off x="5263920" y="5022720"/>
            <a:ext cx="1562040" cy="1150920"/>
          </a:xfrm>
          <a:prstGeom prst="flowChartPunchedTap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5"/>
          <p:cNvSpPr/>
          <p:nvPr/>
        </p:nvSpPr>
        <p:spPr>
          <a:xfrm>
            <a:off x="3957480" y="6053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7"/>
          <p:cNvSpPr/>
          <p:nvPr/>
        </p:nvSpPr>
        <p:spPr>
          <a:xfrm rot="20371800">
            <a:off x="1818000" y="5249520"/>
            <a:ext cx="17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电动机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回转运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8"/>
          <p:cNvSpPr/>
          <p:nvPr/>
        </p:nvSpPr>
        <p:spPr>
          <a:xfrm>
            <a:off x="5334120" y="5181480"/>
            <a:ext cx="14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工作台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直线运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23"/>
          <p:cNvSpPr/>
          <p:nvPr/>
        </p:nvSpPr>
        <p:spPr>
          <a:xfrm>
            <a:off x="3516480" y="5541840"/>
            <a:ext cx="1589040" cy="401760"/>
          </a:xfrm>
          <a:prstGeom prst="pie">
            <a:avLst/>
          </a:prstGeom>
          <a:solidFill>
            <a:srgbClr val="fea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4"/>
          <p:cNvSpPr/>
          <p:nvPr/>
        </p:nvSpPr>
        <p:spPr>
          <a:xfrm>
            <a:off x="3592440" y="5084640"/>
            <a:ext cx="12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转换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5"/>
          <p:cNvGraphicFramePr/>
          <p:nvPr/>
        </p:nvGraphicFramePr>
        <p:xfrm>
          <a:off x="1828800" y="2286000"/>
          <a:ext cx="5324400" cy="23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86000"/>
                    <a:ext cx="5324400" cy="23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Rectangle 6"/>
          <p:cNvSpPr/>
          <p:nvPr/>
        </p:nvSpPr>
        <p:spPr>
          <a:xfrm>
            <a:off x="1371600" y="1828800"/>
            <a:ext cx="4876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3.1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数控机床进给传动系统的要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 rot="11352000">
            <a:off x="1599840" y="1599840"/>
            <a:ext cx="504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1760" y="1523880"/>
            <a:ext cx="7467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滚珠丝杠螺母副间隙的调整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滚珠丝杠螺母副的传动间隙是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轴向间隙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轴向间隙是指丝杠和螺母无相对转动时，二者之间的最大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轴向窜动量。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除了结构本身所有的游隙外，还包括施加轴向载荷后产生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弹性变形所造成的轴向窜动量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了保证滚珠丝杠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反向传动精度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轴向刚度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必须消除轴向间隙。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消除轴向间隙（预紧）常用的方法有三种：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0" t="0" r="47107" b="24689"/>
          <a:stretch/>
        </p:blipFill>
        <p:spPr>
          <a:xfrm>
            <a:off x="1219320" y="1447920"/>
            <a:ext cx="6172200" cy="2514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362320" y="43434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2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螺母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螺母座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调整垫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95480" y="51055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双螺母垫片调隙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51455" t="0" r="0" b="24689"/>
          <a:stretch/>
        </p:blipFill>
        <p:spPr>
          <a:xfrm>
            <a:off x="1371600" y="1676520"/>
            <a:ext cx="5715000" cy="2536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276720" y="51055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双螺母齿差调隙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44197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2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螺母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齿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rcRect l="0" t="0" r="0" b="32282"/>
          <a:stretch/>
        </p:blipFill>
        <p:spPr>
          <a:xfrm>
            <a:off x="1905120" y="1752480"/>
            <a:ext cx="5486400" cy="2873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352680" y="5715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双螺母螺纹调隙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49528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2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螺母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平键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调整螺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1447920" y="1752480"/>
          <a:ext cx="6400800" cy="4173480"/>
        </p:xfrm>
        <a:graphic>
          <a:graphicData uri="http://schemas.openxmlformats.org/drawingml/2006/table">
            <a:tbl>
              <a:tblPr/>
              <a:tblGrid>
                <a:gridCol w="920880"/>
                <a:gridCol w="2511360"/>
                <a:gridCol w="1673280"/>
                <a:gridCol w="1295280"/>
              </a:tblGrid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类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结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特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应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垫片调隙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修磨垫片的厚度调整轴向间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结构简单、刚性好、拆卸方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一般精度机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齿差调隙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调整两个螺母转过一个齿或几个齿位置，使螺母在轴向彼此移动相应的距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结构较为复杂，径向尺寸较大，但调整方便，精度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高精度机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螺纹调隙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拧动圆螺母就能将滚珠螺母沿轴向移动，消除间隙后再锁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结构简单，调整方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精度要求不高的机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90720" y="2692800"/>
            <a:ext cx="723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数控机床对进给传动装置要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）高刚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刚度不足会使工作台产生爬行和反向死区，影响传动准确性。缩短传动链、合理选择滚珠丝杠尺寸、对支承部件预紧也可提高刚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）低摩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进给传动系统要求平稳、定位准确、快速响应特性好，必须减少运动部件的摩擦阻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）无间隙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采用无间隙传动是提高零件精度的重要措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447920" y="16002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）低惯性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进给系统由于经常启动、停止、变速或反向，所以要求在满足强度与刚度的前提下，应尽可能减少运动部件的自重和尺寸，以减小惯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）高谐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即提高进给系统的抗震性，一般要求机械传动系统的固有频率高于伺服系统的固有频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~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13"/>
          <p:cNvGraphicFramePr/>
          <p:nvPr/>
        </p:nvGraphicFramePr>
        <p:xfrm>
          <a:off x="990720" y="2590920"/>
          <a:ext cx="7162560" cy="28191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6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590920"/>
                    <a:ext cx="716256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矩形 3"/>
          <p:cNvSpPr/>
          <p:nvPr/>
        </p:nvSpPr>
        <p:spPr>
          <a:xfrm>
            <a:off x="2222280" y="160020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</a:rPr>
              <a:t>2.3.2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</a:rPr>
              <a:t>滚珠丝杠螺母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4"/>
          <p:cNvSpPr/>
          <p:nvPr/>
        </p:nvSpPr>
        <p:spPr>
          <a:xfrm>
            <a:off x="1600200" y="16765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</a:rPr>
              <a:t>、滚珠丝杠螺母副工作原理、分类和传动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1066680" y="22096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</a:rPr>
              <a:t>）滚珠丝杠螺母副的工作原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</a:rPr>
              <a:t>由</a:t>
            </a:r>
            <a:r>
              <a:rPr b="0" lang="zh-CN" sz="2400" spc="-1" strike="noStrike">
                <a:solidFill>
                  <a:srgbClr val="ff3300"/>
                </a:solidFill>
                <a:latin typeface="华文新魏"/>
              </a:rPr>
              <a:t>丝杠、螺母、滚珠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</a:rPr>
              <a:t>等组成。当丝杠相对螺母旋转时，两者发生轴向位移，滚珠沿着滚道滚动，使丝杠和螺母之间的滑动摩擦转变为滚动摩擦，大大降低了丝杠与螺母之间的摩擦系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489040" y="1295280"/>
            <a:ext cx="269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滚珠丝杠螺母副的分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838080" y="2057400"/>
          <a:ext cx="7467480" cy="3962520"/>
        </p:xfrm>
        <a:graphic>
          <a:graphicData uri="http://schemas.openxmlformats.org/drawingml/2006/table">
            <a:tbl>
              <a:tblPr/>
              <a:tblGrid>
                <a:gridCol w="1335240"/>
                <a:gridCol w="1150920"/>
                <a:gridCol w="3154320"/>
                <a:gridCol w="1827000"/>
              </a:tblGrid>
              <a:tr h="68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分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结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特   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应 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外循环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回珠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结构简单，工艺性好，</a:t>
                      </a: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华文新魏"/>
                          <a:ea typeface="华文新魏"/>
                        </a:rPr>
                        <a:t>承载能力较大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，但</a:t>
                      </a: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华文新魏"/>
                          <a:ea typeface="华文新魏"/>
                        </a:rPr>
                        <a:t>径向尺寸较大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华文新魏"/>
                          <a:ea typeface="华文新魏"/>
                        </a:rPr>
                        <a:t>应用广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90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内循环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反向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华文新魏"/>
                          <a:ea typeface="华文新魏"/>
                        </a:rPr>
                        <a:t>结构紧凑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，刚性好，滚珠流通性好，</a:t>
                      </a: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华文新魏"/>
                          <a:ea typeface="华文新魏"/>
                        </a:rPr>
                        <a:t>摩擦损失小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，但制造困难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适用于</a:t>
                      </a: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华文新魏"/>
                          <a:ea typeface="华文新魏"/>
                        </a:rPr>
                        <a:t>高灵敏度、高精度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的进给系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8" descr="http://hiphotos.baidu.com/foxzone/pic/item/2b8f972bafc3c5dce7cd40e6.jpg"/>
          <p:cNvPicPr/>
          <p:nvPr/>
        </p:nvPicPr>
        <p:blipFill>
          <a:blip r:embed="rId1"/>
          <a:stretch/>
        </p:blipFill>
        <p:spPr>
          <a:xfrm>
            <a:off x="1752480" y="1447920"/>
            <a:ext cx="5486400" cy="3962160"/>
          </a:xfrm>
          <a:prstGeom prst="rect">
            <a:avLst/>
          </a:prstGeom>
          <a:ln w="0">
            <a:noFill/>
          </a:ln>
        </p:spPr>
      </p:pic>
      <p:sp>
        <p:nvSpPr>
          <p:cNvPr id="63" name="云形标注 10"/>
          <p:cNvSpPr/>
          <p:nvPr/>
        </p:nvSpPr>
        <p:spPr>
          <a:xfrm>
            <a:off x="5181480" y="4343400"/>
            <a:ext cx="2057400" cy="1219320"/>
          </a:xfrm>
          <a:prstGeom prst="cloudCallout">
            <a:avLst>
              <a:gd name="adj1" fmla="val -106194"/>
              <a:gd name="adj2" fmla="val -126787"/>
            </a:avLst>
          </a:prstGeom>
          <a:solidFill>
            <a:srgbClr val="c7d5d7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1"/>
          <p:cNvSpPr/>
          <p:nvPr/>
        </p:nvSpPr>
        <p:spPr>
          <a:xfrm>
            <a:off x="56386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回珠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4"/>
          <p:cNvSpPr/>
          <p:nvPr/>
        </p:nvSpPr>
        <p:spPr>
          <a:xfrm>
            <a:off x="4061880" y="5791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</a:rPr>
              <a:t>外循环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BALL SCREW-5"/>
          <p:cNvPicPr/>
          <p:nvPr/>
        </p:nvPicPr>
        <p:blipFill>
          <a:blip r:embed="rId1"/>
          <a:stretch/>
        </p:blipFill>
        <p:spPr>
          <a:xfrm>
            <a:off x="1066680" y="1752480"/>
            <a:ext cx="5181840" cy="4146840"/>
          </a:xfrm>
          <a:prstGeom prst="rect">
            <a:avLst/>
          </a:prstGeom>
          <a:ln w="0">
            <a:noFill/>
          </a:ln>
        </p:spPr>
      </p:pic>
      <p:sp>
        <p:nvSpPr>
          <p:cNvPr id="67" name="矩形 5"/>
          <p:cNvSpPr/>
          <p:nvPr/>
        </p:nvSpPr>
        <p:spPr>
          <a:xfrm>
            <a:off x="3833280" y="6019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内循环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云形标注 3"/>
          <p:cNvSpPr/>
          <p:nvPr/>
        </p:nvSpPr>
        <p:spPr>
          <a:xfrm>
            <a:off x="6019920" y="4495680"/>
            <a:ext cx="2057400" cy="1219320"/>
          </a:xfrm>
          <a:prstGeom prst="cloudCallout">
            <a:avLst>
              <a:gd name="adj1" fmla="val -106194"/>
              <a:gd name="adj2" fmla="val -126787"/>
            </a:avLst>
          </a:prstGeom>
          <a:solidFill>
            <a:srgbClr val="6b6bcf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6248520" y="48769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反向回珠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77120" y="1828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同学们思考一下，外循环和内循环有什么特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205704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   </a:t>
            </a:r>
            <a:r>
              <a:rPr b="0" lang="zh-CN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传动效率高</a:t>
            </a:r>
            <a:br>
              <a:rPr sz="2400"/>
            </a:br>
            <a:r>
              <a:rPr b="0" lang="zh-CN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   摩擦系数小 </a:t>
            </a:r>
            <a:br>
              <a:rPr sz="2400"/>
            </a:br>
            <a:r>
              <a:rPr b="0" lang="zh-CN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   使用寿命长</a:t>
            </a:r>
            <a:br>
              <a:rPr sz="2400"/>
            </a:br>
            <a:r>
              <a:rPr b="0" lang="zh-CN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   刚度高 </a:t>
            </a:r>
            <a:br>
              <a:rPr sz="2400"/>
            </a:br>
            <a:r>
              <a:rPr b="0" lang="zh-CN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   运动精度高 </a:t>
            </a:r>
            <a:br>
              <a:rPr sz="2400"/>
            </a:br>
            <a:r>
              <a:rPr b="0" lang="zh-CN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右大括号 5"/>
          <p:cNvSpPr/>
          <p:nvPr/>
        </p:nvSpPr>
        <p:spPr>
          <a:xfrm>
            <a:off x="4114800" y="2438280"/>
            <a:ext cx="304920" cy="2286000"/>
          </a:xfrm>
          <a:custGeom>
            <a:avLst/>
            <a:gdLst>
              <a:gd name="textAreaLeft" fmla="*/ 0 w 304920"/>
              <a:gd name="textAreaRight" fmla="*/ 110160 w 304920"/>
              <a:gd name="textAreaTop" fmla="*/ 7920 h 2286000"/>
              <a:gd name="textAreaBottom" fmla="*/ 227808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0"/>
                  <a:pt x="10800" y="240"/>
                </a:cubicBezTo>
                <a:lnTo>
                  <a:pt x="10800" y="10560"/>
                </a:lnTo>
                <a:cubicBezTo>
                  <a:pt x="10800" y="10680"/>
                  <a:pt x="16200" y="10800"/>
                  <a:pt x="21600" y="10800"/>
                </a:cubicBezTo>
                <a:cubicBezTo>
                  <a:pt x="16200" y="10800"/>
                  <a:pt x="10800" y="10920"/>
                  <a:pt x="10800" y="11040"/>
                </a:cubicBezTo>
                <a:lnTo>
                  <a:pt x="10800" y="21360"/>
                </a:lnTo>
                <a:cubicBezTo>
                  <a:pt x="10800" y="2148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线形标注 3 7"/>
          <p:cNvSpPr/>
          <p:nvPr/>
        </p:nvSpPr>
        <p:spPr>
          <a:xfrm>
            <a:off x="5105520" y="2666880"/>
            <a:ext cx="1295280" cy="762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-3600" y="21600"/>
                </a:lnTo>
                <a:lnTo>
                  <a:pt x="-8657" y="23989"/>
                </a:lnTo>
              </a:path>
            </a:pathLst>
          </a:custGeom>
          <a:solidFill>
            <a:srgbClr val="bbe0e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华文新魏"/>
                <a:ea typeface="宋体"/>
              </a:rPr>
              <a:t>    </a:t>
            </a:r>
            <a:r>
              <a:rPr b="0" lang="zh-CN" sz="2400" spc="-1" strike="noStrike">
                <a:solidFill>
                  <a:srgbClr val="ff3300"/>
                </a:solidFill>
                <a:latin typeface="华文新魏"/>
              </a:rPr>
              <a:t>优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3124080" y="51055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华文新魏"/>
              </a:rPr>
              <a:t>制造成本高 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华文新魏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华文新魏"/>
              </a:rPr>
              <a:t>不能实现自锁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7"/>
          <p:cNvSpPr/>
          <p:nvPr/>
        </p:nvSpPr>
        <p:spPr>
          <a:xfrm>
            <a:off x="5638680" y="5257800"/>
            <a:ext cx="228600" cy="914400"/>
          </a:xfrm>
          <a:custGeom>
            <a:avLst/>
            <a:gdLst>
              <a:gd name="textAreaLeft" fmla="*/ 0 w 228600"/>
              <a:gd name="textAreaRight" fmla="*/ 8244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线形标注 3 13"/>
          <p:cNvSpPr/>
          <p:nvPr/>
        </p:nvSpPr>
        <p:spPr>
          <a:xfrm>
            <a:off x="6858000" y="4876920"/>
            <a:ext cx="1143000" cy="76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-3600" y="21600"/>
                </a:lnTo>
                <a:lnTo>
                  <a:pt x="-8657" y="23989"/>
                </a:lnTo>
              </a:path>
            </a:pathLst>
          </a:custGeom>
          <a:solidFill>
            <a:srgbClr val="ffff99"/>
          </a:solidFill>
          <a:ln w="2556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华文新魏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华文新魏"/>
              </a:rPr>
              <a:t>   </a:t>
            </a:r>
            <a:r>
              <a:rPr b="0" lang="zh-CN" sz="2400" spc="-1" strike="noStrike">
                <a:solidFill>
                  <a:srgbClr val="333399"/>
                </a:solidFill>
                <a:latin typeface="华文新魏"/>
              </a:rPr>
              <a:t>缺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"/>
          <p:cNvSpPr/>
          <p:nvPr/>
        </p:nvSpPr>
        <p:spPr>
          <a:xfrm rot="11352000">
            <a:off x="1752120" y="1752120"/>
            <a:ext cx="504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28800" y="129528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滚珠丝杠螺母副传动的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3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机械工程系</cp:lastModifiedBy>
  <dcterms:modified xsi:type="dcterms:W3CDTF">2012-11-13T03:12:41Z</dcterms:modified>
  <cp:revision>28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