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58935" t="14564" r="26538" b="6871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196920" y="0"/>
            <a:ext cx="793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rcRect l="22688" t="24413" r="22688" b="25393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0" y="1066680"/>
            <a:ext cx="9220320" cy="15264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228600"/>
            <a:ext cx="6324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二章 数控机床的机械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209680"/>
            <a:ext cx="5105160" cy="132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控机床的机械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主传动2"/>
          <p:cNvPicPr/>
          <p:nvPr/>
        </p:nvPicPr>
        <p:blipFill>
          <a:blip r:embed="rId1"/>
          <a:srcRect l="8035" t="0" r="3562" b="0"/>
          <a:stretch/>
        </p:blipFill>
        <p:spPr>
          <a:xfrm>
            <a:off x="1752480" y="2133720"/>
            <a:ext cx="5181840" cy="2566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09680" y="502920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传动变速的主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主传动3"/>
          <p:cNvPicPr/>
          <p:nvPr/>
        </p:nvPicPr>
        <p:blipFill>
          <a:blip r:embed="rId1"/>
          <a:srcRect l="5946" t="0" r="6891" b="0"/>
          <a:stretch/>
        </p:blipFill>
        <p:spPr>
          <a:xfrm>
            <a:off x="1600200" y="2286000"/>
            <a:ext cx="5257800" cy="247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52480" y="50292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速电动机直接驱动的主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220968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209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14600" y="22096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27432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7432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27432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27672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2767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14600" y="32767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971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971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17184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87692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动机内装主轴的主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981080"/>
            <a:ext cx="701028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981080"/>
            <a:ext cx="5181840" cy="101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数控机床主轴轴承配置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13200" y="1295280"/>
            <a:ext cx="2663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2.3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控机床的主轴部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2819520"/>
          <a:ext cx="7467840" cy="2950920"/>
        </p:xfrm>
        <a:graphic>
          <a:graphicData uri="http://schemas.openxmlformats.org/drawingml/2006/table">
            <a:tbl>
              <a:tblPr/>
              <a:tblGrid>
                <a:gridCol w="1371600"/>
                <a:gridCol w="2133720"/>
                <a:gridCol w="1523880"/>
                <a:gridCol w="243864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轴承配置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前支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后支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高刚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要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2-7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双列圆柱滚子轴承、推力角接触球轴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双列圆柱滚子轴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大中型卧式加工中心主轴、强力切削机床主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高速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要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2-7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个角接触球轴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个角接触球轴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高速运动的数控机床主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65640" y="1446840"/>
            <a:ext cx="567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主轴的进给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990720" y="1600200"/>
            <a:ext cx="769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1.1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控机床机械结构的组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0666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1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数控机床机械结构的组成与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经济型数控车"/>
          <p:cNvPicPr/>
          <p:nvPr/>
        </p:nvPicPr>
        <p:blipFill>
          <a:blip r:embed="rId1"/>
          <a:stretch/>
        </p:blipFill>
        <p:spPr>
          <a:xfrm>
            <a:off x="2133720" y="2895480"/>
            <a:ext cx="4572000" cy="34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057400" y="54100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943600" y="28191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81080" y="320040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352680" y="274284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48006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601992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床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51460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作面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819520"/>
            <a:ext cx="1676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轴卡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2860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刀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5486400"/>
            <a:ext cx="1752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机床防护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9051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控车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07122416023543"/>
          <p:cNvPicPr/>
          <p:nvPr/>
        </p:nvPicPr>
        <p:blipFill>
          <a:blip r:embed="rId1"/>
          <a:stretch/>
        </p:blipFill>
        <p:spPr>
          <a:xfrm>
            <a:off x="1905120" y="2057400"/>
            <a:ext cx="4495680" cy="306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3886200" y="2209680"/>
            <a:ext cx="1828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2895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33720" y="5638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控车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981080"/>
            <a:ext cx="990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尾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590920"/>
            <a:ext cx="1676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屑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557360"/>
            <a:ext cx="7238880" cy="3934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控机床主要由以下几部分组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主传动系统及主轴部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刀具（或工件）产生主切削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伺服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机械位移或速度为控制对象的自动控制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进给传动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工件（或刀具）产生进给运动并实现定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3880"/>
            <a:ext cx="7696080" cy="375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基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括床身、立柱、拖板、工作台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自动换刀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程序指定实现刀具的自动更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辅助装置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括液压、气动、润滑、冷却等系统和排屑、保护等装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特殊功能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监控装置、加工过程图像显示、质量检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1600200"/>
            <a:ext cx="7086600" cy="359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1.2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控机床机械结构的特殊要求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高刚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高灵敏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高精度保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高抗振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129528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2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数控机床主传动系统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180960"/>
            <a:ext cx="739116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变速范围宽，使切削加工始终在最佳状态下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转速高、功率大，使数控机床实现强力切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具有较高的精度与刚度，传动平稳，噪音小，抗振性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为实现刀具的快速及自动装卸，主轴上还必须设计有刀具自动装卸、主轴定向准停和主轴孔内的切屑清除装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905120"/>
            <a:ext cx="5410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1.1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控机床主传动系统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1371600"/>
            <a:ext cx="56390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2.2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控机床主传动系统的变速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2057400"/>
          <a:ext cx="7391520" cy="4522680"/>
        </p:xfrm>
        <a:graphic>
          <a:graphicData uri="http://schemas.openxmlformats.org/drawingml/2006/table">
            <a:tbl>
              <a:tblPr/>
              <a:tblGrid>
                <a:gridCol w="1692360"/>
                <a:gridCol w="1387440"/>
                <a:gridCol w="2774880"/>
                <a:gridCol w="15368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变速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变速机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齿轮变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齿轮传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满足各种切削速度的扭矩输出，主轴箱结构复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大中型数控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带传动变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带传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变速范围小，传动平稳，噪音小，主轴箱结构较复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高转速、低扭矩的小型数控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调速电动机直接驱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调速电动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低速时输出扭矩小，主轴箱结构简单、调速范围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小型数控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电动机内装主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调速电动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低速时输出扭矩小，主轴箱结构最简单、调速范围大，刚度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小型数控机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6" descr="主传动1"/>
          <p:cNvPicPr/>
          <p:nvPr/>
        </p:nvPicPr>
        <p:blipFill>
          <a:blip r:embed="rId1"/>
          <a:stretch/>
        </p:blipFill>
        <p:spPr>
          <a:xfrm>
            <a:off x="1981080" y="2057400"/>
            <a:ext cx="4114800" cy="288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5334120"/>
            <a:ext cx="533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齿轮变速的主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机械工程系</cp:lastModifiedBy>
  <dcterms:modified xsi:type="dcterms:W3CDTF">2012-11-13T03:14:11Z</dcterms:modified>
  <cp:revision>3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