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EF7-5F4C-4963-AF92-47C99B54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568-8091-4E0E-97EE-83513EC1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ACC-03DE-4E80-9298-7CA4D809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533-4ACE-4928-9E87-62BA09B7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C4CC-FB5C-4F6D-B563-43F7E40F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4D8B-CB10-42AD-8C86-66F89A6B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3031-400C-4BF9-AB7E-AAC11A26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9C0B-7E70-4260-A633-08D0FE71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F503-4F8C-4EC4-BC0B-2E45BA54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0F5C-1EAF-4CA6-8493-D680E127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17C6-F5B8-48EB-B6F9-F7307E1A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C30-A36E-41C1-9D96-3A416485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E8F9-A15A-47AE-A641-BFB88558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D53D-9573-4AAF-A3E9-D2E95639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C7DE-4F40-4573-A09B-50ACC4A2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07A7-1162-481B-878E-BC2A6215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2708-A33E-4CAD-AC24-26A3CD32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BE0-75F4-451F-AA4D-E79A39C8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8DE-8B21-4107-97B7-817EDB86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6DB-5F2D-47C5-8EC3-03B6A1C8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A2F-1B45-4637-BDF2-889F18D3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DA3-FA98-4417-8AFE-6BE5632F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9AE-470D-4229-8107-7B1A2F07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124-BF8E-4E6F-89C9-55AF2B8C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C3C6-F4AE-44B4-9F25-47145FEA0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1B8C-E1FD-479B-8068-20B3AEF00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56500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直线度、平面度误差测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03280" y="1700280"/>
            <a:ext cx="655344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实验目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加深对直线度、平面度的认识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学会直线度、平面度的检测及数据处理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实验仪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钢板尺、平板、可调支承、百分表、被测工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8"/>
          <p:cNvSpPr/>
          <p:nvPr/>
        </p:nvSpPr>
        <p:spPr>
          <a:xfrm>
            <a:off x="611280" y="1125360"/>
            <a:ext cx="83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线度公差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7993080" cy="1819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9"/>
          <p:cNvSpPr/>
          <p:nvPr/>
        </p:nvSpPr>
        <p:spPr>
          <a:xfrm>
            <a:off x="395280" y="162684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给定平面内的直线度公差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差带是距离为公差值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两平行直线之间的区域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332000" y="47628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直线度误差检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39640" y="11797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任意方向的直线度公差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在公差值前加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Φ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公差带是直径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圆柱面内的区域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741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755640" y="76500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直线度误差检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187280" y="134136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间隙法测直线度误差：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钢板尺（平尺、平晶、精密短导轨等）模拟理想直线，与被测实际直线比较，根据间隙大小来确定直线度误差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 rot="6222600">
            <a:off x="7236360" y="116280"/>
            <a:ext cx="1081080" cy="1368360"/>
          </a:xfrm>
          <a:prstGeom prst="wedgeEllipseCallout">
            <a:avLst>
              <a:gd name="adj1" fmla="val 70833"/>
              <a:gd name="adj2" fmla="val 7501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 rot="2032800">
            <a:off x="7301880" y="6188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原理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2" descr="4-17"/>
          <p:cNvPicPr/>
          <p:nvPr/>
        </p:nvPicPr>
        <p:blipFill>
          <a:blip r:embed="rId1"/>
          <a:srcRect l="0" t="0" r="6803" b="15737"/>
          <a:stretch/>
        </p:blipFill>
        <p:spPr>
          <a:xfrm>
            <a:off x="2771640" y="3357720"/>
            <a:ext cx="3384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1"/>
          <p:cNvSpPr/>
          <p:nvPr/>
        </p:nvSpPr>
        <p:spPr>
          <a:xfrm>
            <a:off x="900000" y="90792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求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至少取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~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测量位置，用塞规测量各点的间隙，取各测量点中的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最大间隙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为被测直线的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直线度误差值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2" descr="http://www.hbbljt.com/sc/6.gif"/>
          <p:cNvPicPr/>
          <p:nvPr/>
        </p:nvPicPr>
        <p:blipFill>
          <a:blip r:embed="rId1"/>
          <a:stretch/>
        </p:blipFill>
        <p:spPr>
          <a:xfrm>
            <a:off x="2700360" y="2924280"/>
            <a:ext cx="3456000" cy="3244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796000" y="60213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塞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"/>
          <p:cNvSpPr/>
          <p:nvPr/>
        </p:nvSpPr>
        <p:spPr>
          <a:xfrm>
            <a:off x="1547640" y="549360"/>
            <a:ext cx="47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平面度误差检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926000" y="11970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面度公差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174400"/>
            <a:ext cx="75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面度公差用于限制被测实际平面的形状误差，同时可以限制被测表面的直线度误差。公差带是距离为公差值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两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平面之间的区域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图片 4" descr=""/>
          <p:cNvPicPr/>
          <p:nvPr/>
        </p:nvPicPr>
        <p:blipFill>
          <a:blip r:embed="rId1"/>
          <a:stretch/>
        </p:blipFill>
        <p:spPr>
          <a:xfrm>
            <a:off x="1403280" y="3645000"/>
            <a:ext cx="65167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5"/>
          <p:cNvSpPr/>
          <p:nvPr/>
        </p:nvSpPr>
        <p:spPr>
          <a:xfrm>
            <a:off x="1403280" y="98100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点法侧平面度误差：用百（千）分表调整被测表面上相距最远的三点距平板等高，然后在被测表面上均匀画线布点，逐点进行测量并记录读数，将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最大差值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为平面度误差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图片 1" descr="4-19"/>
          <p:cNvPicPr/>
          <p:nvPr/>
        </p:nvPicPr>
        <p:blipFill>
          <a:blip r:embed="rId1"/>
          <a:stretch/>
        </p:blipFill>
        <p:spPr>
          <a:xfrm>
            <a:off x="3059280" y="3436920"/>
            <a:ext cx="4825800" cy="2978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0920" y="476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面度误差检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87280" y="1341360"/>
            <a:ext cx="653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求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至少取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~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测量点，用百分表测量各点并读数，以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最大读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值和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最小读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值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之差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作为被测表面的平面度误差值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2:19:06Z</dcterms:created>
  <dc:creator>机械工程系</dc:creator>
  <dc:description/>
  <dc:language>en-US</dc:language>
  <cp:lastModifiedBy>机械工程系</cp:lastModifiedBy>
  <dcterms:modified xsi:type="dcterms:W3CDTF">2012-11-13T02:53:52Z</dcterms:modified>
  <cp:revision>34</cp:revision>
  <dc:subject/>
  <dc:title>量具使用</dc:title>
</cp:coreProperties>
</file>